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6.png" ContentType="image/png"/>
  <Override PartName="/ppt/media/image3.gif" ContentType="image/gif"/>
  <Override PartName="/ppt/media/image13.png" ContentType="image/png"/>
  <Override PartName="/ppt/media/image11.jpeg" ContentType="image/jpeg"/>
  <Override PartName="/ppt/media/image19.gif" ContentType="image/gif"/>
  <Override PartName="/ppt/media/image5.png" ContentType="image/png"/>
  <Override PartName="/ppt/media/image10.png" ContentType="image/png"/>
  <Override PartName="/ppt/media/image18.gif" ContentType="image/gif"/>
  <Override PartName="/ppt/media/image17.gif" ContentType="image/gif"/>
  <Override PartName="/ppt/media/image16.png" ContentType="image/png"/>
  <Override PartName="/ppt/media/image15.png" ContentType="image/png"/>
  <Override PartName="/ppt/media/image2.png" ContentType="image/png"/>
  <Override PartName="/ppt/media/image12.png" ContentType="image/png"/>
  <Override PartName="/ppt/media/image1.jpeg" ContentType="image/jpeg"/>
  <Override PartName="/ppt/media/image7.png" ContentType="image/png"/>
  <Override PartName="/ppt/media/image4.gif" ContentType="image/gi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8315-892F-484B-ACCE-BF0AE04E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F705-506E-4894-9F06-FF38823D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29B1-034D-4115-8B09-6BF4BB33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D72B-4287-4D4B-BE5F-AEF1B242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0E25-60DD-44DF-9D82-D579C69A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2ADB-5B17-452D-9EE4-2D579C96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2B70-696E-4153-9B37-2B68DEF4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499B-5D69-40F7-A5B9-C89547CC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6AC7-0A70-400E-871B-4DB6FA9D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48C6-BE6B-46CF-8A36-1512ECE6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AF8C-81AC-45AA-9885-535415CC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7FD9-89E0-4B1A-9F0E-16D53A98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F36A-9AF7-41EC-8B15-782A344C1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image" Target="../media/image17.gif"/><Relationship Id="rId12" Type="http://schemas.openxmlformats.org/officeDocument/2006/relationships/image" Target="../media/image17.gif"/><Relationship Id="rId13" Type="http://schemas.openxmlformats.org/officeDocument/2006/relationships/image" Target="../media/image17.gif"/><Relationship Id="rId14" Type="http://schemas.openxmlformats.org/officeDocument/2006/relationships/image" Target="../media/image17.gif"/><Relationship Id="rId15" Type="http://schemas.openxmlformats.org/officeDocument/2006/relationships/image" Target="../media/image17.gif"/><Relationship Id="rId16" Type="http://schemas.openxmlformats.org/officeDocument/2006/relationships/image" Target="../media/image17.gif"/><Relationship Id="rId17" Type="http://schemas.openxmlformats.org/officeDocument/2006/relationships/image" Target="../media/image17.gif"/><Relationship Id="rId18" Type="http://schemas.openxmlformats.org/officeDocument/2006/relationships/image" Target="../media/image17.gif"/><Relationship Id="rId19" Type="http://schemas.openxmlformats.org/officeDocument/2006/relationships/image" Target="../media/image17.gif"/><Relationship Id="rId20" Type="http://schemas.openxmlformats.org/officeDocument/2006/relationships/image" Target="../media/image19.gif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books_writing"/>
          <p:cNvPicPr/>
          <p:nvPr/>
        </p:nvPicPr>
        <p:blipFill>
          <a:blip r:embed="rId2"/>
          <a:stretch/>
        </p:blipFill>
        <p:spPr>
          <a:xfrm>
            <a:off x="611280" y="476280"/>
            <a:ext cx="216036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 rot="20978400">
            <a:off x="1547640" y="1052280"/>
            <a:ext cx="719280" cy="5140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Русск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язы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8" descr="2.gif"/>
          <p:cNvPicPr/>
          <p:nvPr/>
        </p:nvPicPr>
        <p:blipFill>
          <a:blip r:embed="rId3"/>
          <a:stretch/>
        </p:blipFill>
        <p:spPr>
          <a:xfrm rot="780000">
            <a:off x="7235640" y="479736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258920" y="1844640"/>
            <a:ext cx="6553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УССКИЙ ЯЗЫ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908000" y="981000"/>
            <a:ext cx="4967280" cy="4966920"/>
            <a:chOff x="1908000" y="981000"/>
            <a:chExt cx="4967280" cy="4966920"/>
          </a:xfrm>
        </p:grpSpPr>
        <p:sp>
          <p:nvSpPr>
            <p:cNvPr id="100" name=""/>
            <p:cNvSpPr/>
            <p:nvPr/>
          </p:nvSpPr>
          <p:spPr>
            <a:xfrm rot="16200000">
              <a:off x="5184000" y="231300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ff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6200000">
              <a:off x="2591640" y="231300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efefe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24000" y="357336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bfb5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24000" y="98100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4bfb5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95640" y="3068280"/>
              <a:ext cx="865080" cy="865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282920" y="836640"/>
            <a:ext cx="287640" cy="287280"/>
          </a:xfrm>
          <a:prstGeom prst="ellipse">
            <a:avLst/>
          </a:prstGeom>
          <a:gradFill rotWithShape="0">
            <a:gsLst>
              <a:gs pos="0">
                <a:srgbClr val="0000cc"/>
              </a:gs>
              <a:gs pos="100000">
                <a:srgbClr val="00005e"/>
              </a:gs>
            </a:gsLst>
            <a:path path="rect">
              <a:fillToRect l="50000" t="50000" r="50000" b="50000"/>
            </a:path>
          </a:gradFill>
          <a:ln cap="rnd" w="57240">
            <a:solidFill>
              <a:srgbClr val="cc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5.18519E-006 C 0.00416 -0.00092 0.01232 -0.00208 0.01666 0.00186 C 0.021 0.00579 0.02135 0.01297 0.02638 0.02408 C 0.03142 0.03519 0.04235 0.05001 0.04722 0.06853 C 0.05208 0.08704 0.05416 0.11089 0.05555 0.13519 C 0.05694 0.1595 0.05711 0.19144 0.05555 0.21482 C 0.05399 0.23797 0.05017 0.25834 0.04583 0.27593 C 0.04149 0.29353 0.0276 0.31413 0.02916 0.32038 C 0.03072 0.3264 0.04322 0.31644 0.05555 0.31297 C 0.06788 0.30927 0.08541 0.30255 0.10277 0.29978 C 0.12013 0.29746 0.14235 0.29723 0.15972 0.29792 C 0.17708 0.29908 0.19322 0.30093 0.20694 0.30533 C 0.22065 0.31019 0.23107 0.31853 0.24166 0.32593 C 0.25225 0.33334 0.26683 0.33982 0.27083 0.34978 C 0.27482 0.35973 0.271 0.37408 0.26527 0.38519 C 0.25954 0.3963 0.24722 0.40857 0.2361 0.41667 C 0.22499 0.42478 0.21406 0.42871 0.1986 0.43334 C 0.18315 0.43797 0.16024 0.44422 0.14305 0.44445 C 0.12586 0.44468 0.11128 0.43866 0.09583 0.43519 C 0.08038 0.43172 0.05954 0.42686 0.04999 0.42408 C 0.04044 0.4213 0.03906 0.41459 0.03888 0.41853 C 0.03871 0.42246 0.04531 0.43218 0.0486 0.44816 C 0.0519 0.46413 0.05711 0.49561 0.05833 0.51482 C 0.05954 0.53404 0.05572 0.54723 0.05555 0.56274 C 0.05538 0.57825 0.05885 0.58913 0.05694 0.60741 C 0.05503 0.62547 0.04999 0.65487 0.04444 0.672 C 0.03888 0.68959 0.02933 0.70232 0.0236 0.71112 C 0.01788 0.71968 0.01614 0.72292 0.00972 0.72408 C 0.00329 0.72501 -0.00747 0.72501 -0.01528 0.71829 C -0.0231 0.71181 -0.03126 0.70024 -0.03751 0.68311 C -0.04376 0.66644 -0.04983 0.63612 -0.05278 0.61644 C -0.05574 0.597 -0.05539 0.58195 -0.05556 0.56482 C -0.05574 0.54723 -0.05608 0.53033 -0.05417 0.51274 C -0.05226 0.49561 -0.04844 0.47663 -0.04445 0.46112 C -0.04046 0.44561 -0.03247 0.42894 -0.03056 0.42038 C -0.02865 0.41181 -0.03108 0.4095 -0.03334 0.40927 C -0.0356 0.40904 -0.03403 0.41297 -0.04445 0.41853 C -0.05487 0.42408 -0.07726 0.43866 -0.09584 0.4426 C -0.11442 0.44654 -0.13942 0.44353 -0.15556 0.4426 C -0.17171 0.44167 -0.17969 0.44052 -0.19306 0.43704 C -0.20643 0.43357 -0.22553 0.42802 -0.23612 0.42223 C -0.24671 0.41644 -0.25087 0.40927 -0.25695 0.40186 C -0.26303 0.39445 -0.27101 0.3882 -0.27223 0.37779 C -0.27344 0.36737 -0.27153 0.34931 -0.2639 0.33866 C -0.25626 0.32825 -0.2389 0.32084 -0.2264 0.31482 C -0.2139 0.30857 -0.20018 0.30441 -0.1889 0.30163 C -0.17761 0.29931 -0.17084 0.30001 -0.15834 0.29978 C -0.14584 0.29954 -0.12553 0.29954 -0.1139 0.29978 C -0.10226 0.30001 -0.09844 0.29908 -0.0889 0.30163 C -0.07935 0.30464 -0.06615 0.31204 -0.05695 0.31667 C -0.04775 0.32107 -0.03664 0.33218 -0.03334 0.32964 C -0.03004 0.32686 -0.03421 0.31899 -0.03751 0.30163 C -0.04081 0.28427 -0.05001 0.24538 -0.05278 0.22593 C -0.05556 0.20626 -0.05417 0.19885 -0.05417 0.18334 C -0.05417 0.16783 -0.05365 0.14885 -0.05278 0.13334 C -0.05192 0.11783 -0.05087 0.10348 -0.04862 0.09075 C -0.04636 0.07802 -0.04237 0.06691 -0.0389 0.05741 C -0.03542 0.04792 -0.03178 0.04052 -0.02778 0.03334 C -0.02379 0.02616 -0.01858 0.01922 -0.01528 0.01482 C -0.01199 0.01042 -0.01112 0.00996 -0.00834 0.00741 C -0.00556 0.00487 -0.00417 0.00093 -6.66667E-006 5.18519E-006 Z">
                                      <p:cBhvr>
                                        <p:cTn id="93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47640" y="1168560"/>
            <a:ext cx="6120000" cy="4589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476360" y="1141560"/>
            <a:ext cx="6120000" cy="4589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60" y="3429000"/>
            <a:ext cx="8820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54360" y="115920"/>
            <a:ext cx="0" cy="6615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981000"/>
            <a:ext cx="433440" cy="43344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80360" y="907920"/>
            <a:ext cx="433440" cy="43344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6424560"/>
            <a:ext cx="433440" cy="43344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213000"/>
            <a:ext cx="433440" cy="43344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0482E-006 L 0.66146 0.66473 E">
                                      <p:cBhvr>
                                        <p:cTn id="105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7.78499E-007 L -0.67726 0.67285 E">
                                      <p:cBhvr>
                                        <p:cTn id="12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3003E-006 L -0.00781 -0.94161 E">
                                      <p:cBhvr>
                                        <p:cTn id="143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8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39203E-006 L 0.95677 -3.39203E-006 E">
                                      <p:cBhvr>
                                        <p:cTn id="162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7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940360" y="2924280"/>
            <a:ext cx="2087640" cy="1008000"/>
          </a:xfrm>
          <a:custGeom>
            <a:avLst/>
            <a:gdLst>
              <a:gd name="textAreaLeft" fmla="*/ 0 w 2087640"/>
              <a:gd name="textAreaRight" fmla="*/ 2088000 w 2087640"/>
              <a:gd name="textAreaTop" fmla="*/ 130680 h 1008000"/>
              <a:gd name="textAreaBottom" fmla="*/ 8773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СЛУЖЕБ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ЧАСТИ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2276640"/>
            <a:ext cx="2087640" cy="647640"/>
          </a:xfrm>
          <a:custGeom>
            <a:avLst/>
            <a:gdLst>
              <a:gd name="textAreaLeft" fmla="*/ 0 w 2087640"/>
              <a:gd name="textAreaRight" fmla="*/ 2088000 w 2087640"/>
              <a:gd name="textAreaTop" fmla="*/ 83880 h 647640"/>
              <a:gd name="textAreaBottom" fmla="*/ 5637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ГЛАГ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1341360"/>
            <a:ext cx="2519280" cy="646200"/>
          </a:xfrm>
          <a:custGeom>
            <a:avLst/>
            <a:gdLst>
              <a:gd name="textAreaLeft" fmla="*/ 0 w 2519280"/>
              <a:gd name="textAreaRight" fmla="*/ 2519640 w 2519280"/>
              <a:gd name="textAreaTop" fmla="*/ 83520 h 646200"/>
              <a:gd name="textAreaBottom" fmla="*/ 562680 h 646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РИЛАГ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08720" y="2060640"/>
            <a:ext cx="2519280" cy="720720"/>
          </a:xfrm>
          <a:custGeom>
            <a:avLst/>
            <a:gdLst>
              <a:gd name="textAreaLeft" fmla="*/ 0 w 2519280"/>
              <a:gd name="textAreaRight" fmla="*/ 2519640 w 2519280"/>
              <a:gd name="textAreaTop" fmla="*/ 93240 h 720720"/>
              <a:gd name="textAreaBottom" fmla="*/ 6274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СУЩЕСТВ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5436360" y="5230080"/>
            <a:ext cx="72072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ПРЕДЛОГ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6300000" y="4798080"/>
            <a:ext cx="72072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СОЮЗ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308000" y="4941000"/>
            <a:ext cx="72072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ЧАСТИЦ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84360" y="1557360"/>
            <a:ext cx="2303640" cy="936720"/>
          </a:xfrm>
          <a:custGeom>
            <a:avLst/>
            <a:gdLst>
              <a:gd name="textAreaLeft" fmla="*/ 0 w 2303640"/>
              <a:gd name="textAreaRight" fmla="*/ 2304000 w 2303640"/>
              <a:gd name="textAreaTop" fmla="*/ 121320 h 936720"/>
              <a:gd name="textAreaBottom" fmla="*/ 8154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МЕСТОИ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(СЛОВА-УКАЗАТЕ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00000" y="333360"/>
            <a:ext cx="7417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работай самостоятельно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755640" y="2133720"/>
            <a:ext cx="2808360" cy="280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427640" y="31417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.86 Упр.1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7" descr="cdolls118.gif"/>
          <p:cNvPicPr/>
          <p:nvPr/>
        </p:nvPicPr>
        <p:blipFill>
          <a:blip r:embed="rId2"/>
          <a:stretch/>
        </p:blipFill>
        <p:spPr>
          <a:xfrm>
            <a:off x="826920" y="333360"/>
            <a:ext cx="7561440" cy="5759640"/>
          </a:xfrm>
          <a:prstGeom prst="rect">
            <a:avLst/>
          </a:prstGeom>
          <a:ln w="0">
            <a:noFill/>
          </a:ln>
        </p:spPr>
      </p:pic>
      <p:sp>
        <p:nvSpPr>
          <p:cNvPr id="127" name="WordArt 4"/>
          <p:cNvSpPr txBox="1"/>
          <p:nvPr/>
        </p:nvSpPr>
        <p:spPr>
          <a:xfrm>
            <a:off x="2916360" y="765000"/>
            <a:ext cx="40478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Домашнее задание: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184464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пражнение 1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87280" y="333360"/>
            <a:ext cx="648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ь себя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1125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Часть речи, которая обозначает предмет и отвечает на вопросы кто? что?, называется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1773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именем прилагатель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2060640"/>
            <a:ext cx="46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именем существитель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421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глаго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29973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Часть речи, которая обозначает признак предмет и отвечает на вопросы какой? какая?, какое?, какие? называется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3645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именем прилагатель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4005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предло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4365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глаго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4724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Часть речи, которая обозначает действие предмет и отвечает на вопросы что делать? что делает?, что делал?, что сделать? и т.д. называется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537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именем существитель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566100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глагол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60213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местоим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10" descr="emocii-2157.gif"/>
          <p:cNvPicPr/>
          <p:nvPr/>
        </p:nvPicPr>
        <p:blipFill>
          <a:blip r:embed="rId4"/>
          <a:stretch/>
        </p:blipFill>
        <p:spPr>
          <a:xfrm>
            <a:off x="5796000" y="1844640"/>
            <a:ext cx="1079640" cy="7207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0" descr="emocii-2157.gif"/>
          <p:cNvPicPr/>
          <p:nvPr/>
        </p:nvPicPr>
        <p:blipFill>
          <a:blip r:embed="rId5"/>
          <a:stretch/>
        </p:blipFill>
        <p:spPr>
          <a:xfrm>
            <a:off x="6012000" y="3645000"/>
            <a:ext cx="1079280" cy="7207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0" descr="emocii-2157.gif"/>
          <p:cNvPicPr/>
          <p:nvPr/>
        </p:nvPicPr>
        <p:blipFill>
          <a:blip r:embed="rId6"/>
          <a:stretch/>
        </p:blipFill>
        <p:spPr>
          <a:xfrm>
            <a:off x="6084720" y="558972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indefinite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67" dur="indefinite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68" dur="indefinite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9" dur="indefinite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indefinite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86" dur="indefinite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87" dur="indefinite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8" dur="indefinite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5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indefinite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05" dur="indefinite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06" dur="indefinite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7" dur="indefinite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3500280" y="1049400"/>
            <a:ext cx="1356120" cy="3619800"/>
            <a:chOff x="3500280" y="1049400"/>
            <a:chExt cx="1356120" cy="3619800"/>
          </a:xfrm>
        </p:grpSpPr>
        <p:grpSp>
          <p:nvGrpSpPr>
            <p:cNvPr id="146" name="Group 276"/>
            <p:cNvGrpSpPr/>
            <p:nvPr/>
          </p:nvGrpSpPr>
          <p:grpSpPr>
            <a:xfrm>
              <a:off x="3500280" y="1049400"/>
              <a:ext cx="1356120" cy="3619800"/>
              <a:chOff x="3500280" y="1049400"/>
              <a:chExt cx="1356120" cy="3619800"/>
            </a:xfrm>
          </p:grpSpPr>
          <p:sp>
            <p:nvSpPr>
              <p:cNvPr id="147" name="Freeform 275"/>
              <p:cNvSpPr/>
              <p:nvPr/>
            </p:nvSpPr>
            <p:spPr>
              <a:xfrm rot="10921800">
                <a:off x="3940560" y="2585880"/>
                <a:ext cx="693000" cy="207144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271"/>
              <p:cNvSpPr/>
              <p:nvPr/>
            </p:nvSpPr>
            <p:spPr>
              <a:xfrm rot="121800">
                <a:off x="3530520" y="1071720"/>
                <a:ext cx="1295280" cy="1741680"/>
              </a:xfrm>
              <a:prstGeom prst="ellipse">
                <a:avLst/>
              </a:prstGeom>
              <a:gradFill rotWithShape="0">
                <a:gsLst>
                  <a:gs pos="0">
                    <a:srgbClr val="ff5555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73"/>
              <p:cNvSpPr/>
              <p:nvPr/>
            </p:nvSpPr>
            <p:spPr>
              <a:xfrm rot="121800">
                <a:off x="3837240" y="2769120"/>
                <a:ext cx="708840" cy="3571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Oval 7"/>
            <p:cNvSpPr/>
            <p:nvPr/>
          </p:nvSpPr>
          <p:spPr>
            <a:xfrm rot="858600">
              <a:off x="3630600" y="1239840"/>
              <a:ext cx="838080" cy="914040"/>
            </a:xfrm>
            <a:prstGeom prst="ellipse">
              <a:avLst/>
            </a:prstGeom>
            <a:solidFill>
              <a:srgbClr val="fe7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8"/>
            <p:cNvSpPr/>
            <p:nvPr/>
          </p:nvSpPr>
          <p:spPr>
            <a:xfrm rot="858600">
              <a:off x="3717360" y="1307520"/>
              <a:ext cx="609480" cy="685440"/>
            </a:xfrm>
            <a:prstGeom prst="ellipse">
              <a:avLst/>
            </a:prstGeom>
            <a:solidFill>
              <a:srgbClr val="fd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9"/>
          <p:cNvGrpSpPr/>
          <p:nvPr/>
        </p:nvGrpSpPr>
        <p:grpSpPr>
          <a:xfrm>
            <a:off x="1480680" y="146880"/>
            <a:ext cx="2310480" cy="3647880"/>
            <a:chOff x="1480680" y="146880"/>
            <a:chExt cx="2310480" cy="3647880"/>
          </a:xfrm>
        </p:grpSpPr>
        <p:grpSp>
          <p:nvGrpSpPr>
            <p:cNvPr id="153" name="Group 276"/>
            <p:cNvGrpSpPr/>
            <p:nvPr/>
          </p:nvGrpSpPr>
          <p:grpSpPr>
            <a:xfrm>
              <a:off x="1480680" y="146880"/>
              <a:ext cx="2310480" cy="3647880"/>
              <a:chOff x="1480680" y="146880"/>
              <a:chExt cx="2310480" cy="3647880"/>
            </a:xfrm>
          </p:grpSpPr>
          <p:sp>
            <p:nvSpPr>
              <p:cNvPr id="154" name="Freeform 275"/>
              <p:cNvSpPr/>
              <p:nvPr/>
            </p:nvSpPr>
            <p:spPr>
              <a:xfrm rot="9607800">
                <a:off x="2766600" y="1667160"/>
                <a:ext cx="693000" cy="2071440"/>
              </a:xfrm>
              <a:prstGeom prst="pie">
                <a:avLst/>
              </a:prstGeom>
              <a:noFill/>
              <a:ln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271"/>
              <p:cNvSpPr/>
              <p:nvPr/>
            </p:nvSpPr>
            <p:spPr>
              <a:xfrm rot="20407800">
                <a:off x="1738080" y="315000"/>
                <a:ext cx="1295280" cy="17416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273"/>
              <p:cNvSpPr/>
              <p:nvPr/>
            </p:nvSpPr>
            <p:spPr>
              <a:xfrm rot="20407800">
                <a:off x="2418480" y="1934640"/>
                <a:ext cx="708840" cy="35712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Oval 14"/>
            <p:cNvSpPr/>
            <p:nvPr/>
          </p:nvSpPr>
          <p:spPr>
            <a:xfrm rot="20831400">
              <a:off x="1868760" y="475560"/>
              <a:ext cx="838080" cy="914400"/>
            </a:xfrm>
            <a:prstGeom prst="ellipse">
              <a:avLst/>
            </a:prstGeom>
            <a:solidFill>
              <a:srgbClr val="76f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5"/>
            <p:cNvSpPr/>
            <p:nvPr/>
          </p:nvSpPr>
          <p:spPr>
            <a:xfrm rot="20831400">
              <a:off x="1937880" y="561240"/>
              <a:ext cx="609480" cy="685800"/>
            </a:xfrm>
            <a:prstGeom prst="ellipse">
              <a:avLst/>
            </a:prstGeom>
            <a:solidFill>
              <a:srgbClr val="c2f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6"/>
          <p:cNvGrpSpPr/>
          <p:nvPr/>
        </p:nvGrpSpPr>
        <p:grpSpPr>
          <a:xfrm>
            <a:off x="493200" y="2576520"/>
            <a:ext cx="2744640" cy="3535200"/>
            <a:chOff x="493200" y="2576520"/>
            <a:chExt cx="2744640" cy="3535200"/>
          </a:xfrm>
        </p:grpSpPr>
        <p:grpSp>
          <p:nvGrpSpPr>
            <p:cNvPr id="160" name="Group 276"/>
            <p:cNvGrpSpPr/>
            <p:nvPr/>
          </p:nvGrpSpPr>
          <p:grpSpPr>
            <a:xfrm>
              <a:off x="493200" y="2576520"/>
              <a:ext cx="2744640" cy="3535200"/>
              <a:chOff x="493200" y="2576520"/>
              <a:chExt cx="2744640" cy="3535200"/>
            </a:xfrm>
          </p:grpSpPr>
          <p:sp>
            <p:nvSpPr>
              <p:cNvPr id="161" name="Freeform 275"/>
              <p:cNvSpPr/>
              <p:nvPr/>
            </p:nvSpPr>
            <p:spPr>
              <a:xfrm rot="9070200">
                <a:off x="2088360" y="4001400"/>
                <a:ext cx="692640" cy="2071440"/>
              </a:xfrm>
              <a:prstGeom prst="pie">
                <a:avLst/>
              </a:prstGeom>
              <a:noFill/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71"/>
              <p:cNvSpPr/>
              <p:nvPr/>
            </p:nvSpPr>
            <p:spPr>
              <a:xfrm rot="19870200">
                <a:off x="832680" y="2780640"/>
                <a:ext cx="1294920" cy="17416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273"/>
              <p:cNvSpPr/>
              <p:nvPr/>
            </p:nvSpPr>
            <p:spPr>
              <a:xfrm rot="19870200">
                <a:off x="1653480" y="4329000"/>
                <a:ext cx="708480" cy="357120"/>
              </a:xfrm>
              <a:prstGeom prst="pi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Oval 21"/>
            <p:cNvSpPr/>
            <p:nvPr/>
          </p:nvSpPr>
          <p:spPr>
            <a:xfrm rot="20017200">
              <a:off x="1066680" y="2963160"/>
              <a:ext cx="838440" cy="9144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2"/>
            <p:cNvSpPr/>
            <p:nvPr/>
          </p:nvSpPr>
          <p:spPr>
            <a:xfrm rot="19802400">
              <a:off x="1179720" y="3023640"/>
              <a:ext cx="60948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23"/>
          <p:cNvGrpSpPr/>
          <p:nvPr/>
        </p:nvGrpSpPr>
        <p:grpSpPr>
          <a:xfrm>
            <a:off x="5397480" y="712800"/>
            <a:ext cx="3156120" cy="3317040"/>
            <a:chOff x="5397480" y="712800"/>
            <a:chExt cx="3156120" cy="3317040"/>
          </a:xfrm>
        </p:grpSpPr>
        <p:grpSp>
          <p:nvGrpSpPr>
            <p:cNvPr id="167" name="Group 276"/>
            <p:cNvGrpSpPr/>
            <p:nvPr/>
          </p:nvGrpSpPr>
          <p:grpSpPr>
            <a:xfrm>
              <a:off x="5397480" y="712800"/>
              <a:ext cx="3156120" cy="3317040"/>
              <a:chOff x="5397480" y="712800"/>
              <a:chExt cx="3156120" cy="3317040"/>
            </a:xfrm>
          </p:grpSpPr>
          <p:sp>
            <p:nvSpPr>
              <p:cNvPr id="168" name="Freeform 275"/>
              <p:cNvSpPr/>
              <p:nvPr/>
            </p:nvSpPr>
            <p:spPr>
              <a:xfrm rot="13572000">
                <a:off x="6038280" y="2027160"/>
                <a:ext cx="692640" cy="2071440"/>
              </a:xfrm>
              <a:prstGeom prst="pie">
                <a:avLst/>
              </a:prstGeom>
              <a:noFill/>
              <a:ln w="25560">
                <a:solidFill>
                  <a:srgbClr val="fc80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271"/>
              <p:cNvSpPr/>
              <p:nvPr/>
            </p:nvSpPr>
            <p:spPr>
              <a:xfrm rot="2772600">
                <a:off x="6829200" y="911880"/>
                <a:ext cx="1294920" cy="1741680"/>
              </a:xfrm>
              <a:prstGeom prst="ellipse">
                <a:avLst/>
              </a:prstGeom>
              <a:solidFill>
                <a:srgbClr val="fdc3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73"/>
              <p:cNvSpPr/>
              <p:nvPr/>
            </p:nvSpPr>
            <p:spPr>
              <a:xfrm rot="2772600">
                <a:off x="6431400" y="2334600"/>
                <a:ext cx="708480" cy="357120"/>
              </a:xfrm>
              <a:prstGeom prst="pie">
                <a:avLst/>
              </a:prstGeom>
              <a:solidFill>
                <a:srgbClr val="fdc3f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Oval 28"/>
            <p:cNvSpPr/>
            <p:nvPr/>
          </p:nvSpPr>
          <p:spPr>
            <a:xfrm rot="2193000">
              <a:off x="7315920" y="1236600"/>
              <a:ext cx="838080" cy="914040"/>
            </a:xfrm>
            <a:prstGeom prst="ellipse">
              <a:avLst/>
            </a:prstGeom>
            <a:solidFill>
              <a:srgbClr val="fc8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9"/>
            <p:cNvSpPr/>
            <p:nvPr/>
          </p:nvSpPr>
          <p:spPr>
            <a:xfrm rot="1978800">
              <a:off x="7456680" y="1397880"/>
              <a:ext cx="609120" cy="685440"/>
            </a:xfrm>
            <a:prstGeom prst="ellipse">
              <a:avLst/>
            </a:prstGeom>
            <a:solidFill>
              <a:srgbClr val="fdc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30"/>
          <p:cNvGrpSpPr/>
          <p:nvPr/>
        </p:nvGrpSpPr>
        <p:grpSpPr>
          <a:xfrm>
            <a:off x="4532760" y="297000"/>
            <a:ext cx="2233080" cy="3740760"/>
            <a:chOff x="4532760" y="297000"/>
            <a:chExt cx="2233080" cy="3740760"/>
          </a:xfrm>
        </p:grpSpPr>
        <p:grpSp>
          <p:nvGrpSpPr>
            <p:cNvPr id="174" name="Group 276"/>
            <p:cNvGrpSpPr/>
            <p:nvPr/>
          </p:nvGrpSpPr>
          <p:grpSpPr>
            <a:xfrm>
              <a:off x="4532760" y="297000"/>
              <a:ext cx="2233080" cy="3740760"/>
              <a:chOff x="4532760" y="297000"/>
              <a:chExt cx="2233080" cy="3740760"/>
            </a:xfrm>
          </p:grpSpPr>
          <p:sp>
            <p:nvSpPr>
              <p:cNvPr id="175" name="Freeform 275"/>
              <p:cNvSpPr/>
              <p:nvPr/>
            </p:nvSpPr>
            <p:spPr>
              <a:xfrm rot="12267600">
                <a:off x="4930200" y="1915560"/>
                <a:ext cx="692640" cy="2071440"/>
              </a:xfrm>
              <a:prstGeom prst="pie">
                <a:avLst/>
              </a:prstGeom>
              <a:noFill/>
              <a:ln w="255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271"/>
              <p:cNvSpPr/>
              <p:nvPr/>
            </p:nvSpPr>
            <p:spPr>
              <a:xfrm rot="1467600">
                <a:off x="5168520" y="486720"/>
                <a:ext cx="1294920" cy="17416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273"/>
              <p:cNvSpPr/>
              <p:nvPr/>
            </p:nvSpPr>
            <p:spPr>
              <a:xfrm rot="1467600">
                <a:off x="5090760" y="2113200"/>
                <a:ext cx="708480" cy="35712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Oval 35"/>
            <p:cNvSpPr/>
            <p:nvPr/>
          </p:nvSpPr>
          <p:spPr>
            <a:xfrm rot="1976400">
              <a:off x="5402880" y="691560"/>
              <a:ext cx="838440" cy="9144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6"/>
            <p:cNvSpPr/>
            <p:nvPr/>
          </p:nvSpPr>
          <p:spPr>
            <a:xfrm rot="1761000">
              <a:off x="5563080" y="776880"/>
              <a:ext cx="609480" cy="6858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37"/>
          <p:cNvGrpSpPr/>
          <p:nvPr/>
        </p:nvGrpSpPr>
        <p:grpSpPr>
          <a:xfrm>
            <a:off x="3865320" y="2774160"/>
            <a:ext cx="1303560" cy="3831480"/>
            <a:chOff x="3865320" y="2774160"/>
            <a:chExt cx="1303560" cy="3831480"/>
          </a:xfrm>
        </p:grpSpPr>
        <p:sp>
          <p:nvSpPr>
            <p:cNvPr id="181" name="Freeform 275"/>
            <p:cNvSpPr/>
            <p:nvPr/>
          </p:nvSpPr>
          <p:spPr>
            <a:xfrm rot="10816200">
              <a:off x="4368960" y="4532400"/>
              <a:ext cx="693720" cy="2071440"/>
            </a:xfrm>
            <a:prstGeom prst="pie">
              <a:avLst/>
            </a:pr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73"/>
            <p:cNvSpPr/>
            <p:nvPr/>
          </p:nvSpPr>
          <p:spPr>
            <a:xfrm rot="16800">
              <a:off x="4195800" y="4457160"/>
              <a:ext cx="708120" cy="357120"/>
            </a:xfrm>
            <a:prstGeom prst="pi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40"/>
            <p:cNvGrpSpPr/>
            <p:nvPr/>
          </p:nvGrpSpPr>
          <p:grpSpPr>
            <a:xfrm>
              <a:off x="3865320" y="2774160"/>
              <a:ext cx="1303560" cy="1748880"/>
              <a:chOff x="3865320" y="2774160"/>
              <a:chExt cx="1303560" cy="1748880"/>
            </a:xfrm>
          </p:grpSpPr>
          <p:sp>
            <p:nvSpPr>
              <p:cNvPr id="184" name="Oval 271"/>
              <p:cNvSpPr/>
              <p:nvPr/>
            </p:nvSpPr>
            <p:spPr>
              <a:xfrm rot="16800">
                <a:off x="3869280" y="2777040"/>
                <a:ext cx="1295280" cy="17427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42"/>
              <p:cNvSpPr/>
              <p:nvPr/>
            </p:nvSpPr>
            <p:spPr>
              <a:xfrm rot="310800">
                <a:off x="4100400" y="2962080"/>
                <a:ext cx="685800" cy="914040"/>
              </a:xfrm>
              <a:prstGeom prst="ellipse">
                <a:avLst/>
              </a:prstGeom>
              <a:solidFill>
                <a:srgbClr val="584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43"/>
              <p:cNvSpPr/>
              <p:nvPr/>
            </p:nvSpPr>
            <p:spPr>
              <a:xfrm rot="1288800">
                <a:off x="4116960" y="3027600"/>
                <a:ext cx="609840" cy="685440"/>
              </a:xfrm>
              <a:prstGeom prst="ellipse">
                <a:avLst/>
              </a:prstGeom>
              <a:solidFill>
                <a:srgbClr val="a7a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Group 44"/>
          <p:cNvGrpSpPr/>
          <p:nvPr/>
        </p:nvGrpSpPr>
        <p:grpSpPr>
          <a:xfrm>
            <a:off x="4825440" y="2840400"/>
            <a:ext cx="2882520" cy="3521520"/>
            <a:chOff x="4825440" y="2840400"/>
            <a:chExt cx="2882520" cy="3521520"/>
          </a:xfrm>
        </p:grpSpPr>
        <p:grpSp>
          <p:nvGrpSpPr>
            <p:cNvPr id="188" name="Group 276"/>
            <p:cNvGrpSpPr/>
            <p:nvPr/>
          </p:nvGrpSpPr>
          <p:grpSpPr>
            <a:xfrm>
              <a:off x="4825440" y="2840400"/>
              <a:ext cx="2882520" cy="3521520"/>
              <a:chOff x="4825440" y="2840400"/>
              <a:chExt cx="2882520" cy="3521520"/>
            </a:xfrm>
          </p:grpSpPr>
          <p:sp>
            <p:nvSpPr>
              <p:cNvPr id="189" name="Freeform 275"/>
              <p:cNvSpPr/>
              <p:nvPr/>
            </p:nvSpPr>
            <p:spPr>
              <a:xfrm rot="13121400">
                <a:off x="5396760" y="4301280"/>
                <a:ext cx="692640" cy="2071440"/>
              </a:xfrm>
              <a:prstGeom prst="pie">
                <a:avLst/>
              </a:prstGeom>
              <a:noFill/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271"/>
              <p:cNvSpPr/>
              <p:nvPr/>
            </p:nvSpPr>
            <p:spPr>
              <a:xfrm rot="2321400">
                <a:off x="6010560" y="3053880"/>
                <a:ext cx="1294920" cy="17416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73"/>
              <p:cNvSpPr/>
              <p:nvPr/>
            </p:nvSpPr>
            <p:spPr>
              <a:xfrm rot="2321400">
                <a:off x="5714280" y="4561200"/>
                <a:ext cx="708480" cy="357120"/>
              </a:xfrm>
              <a:prstGeom prst="pi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Oval 49"/>
            <p:cNvSpPr/>
            <p:nvPr/>
          </p:nvSpPr>
          <p:spPr>
            <a:xfrm rot="2805600">
              <a:off x="6289200" y="3262320"/>
              <a:ext cx="837720" cy="914400"/>
            </a:xfrm>
            <a:prstGeom prst="ellipse">
              <a:avLst/>
            </a:prstGeom>
            <a:solidFill>
              <a:srgbClr val="fc8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50"/>
            <p:cNvSpPr/>
            <p:nvPr/>
          </p:nvSpPr>
          <p:spPr>
            <a:xfrm rot="2591400">
              <a:off x="6523200" y="3393000"/>
              <a:ext cx="609120" cy="685800"/>
            </a:xfrm>
            <a:prstGeom prst="ellipse">
              <a:avLst/>
            </a:prstGeom>
            <a:solidFill>
              <a:srgbClr val="fdc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Picture 51" descr="звезды2"/>
          <p:cNvPicPr/>
          <p:nvPr/>
        </p:nvPicPr>
        <p:blipFill>
          <a:blip r:embed="rId2"/>
          <a:stretch/>
        </p:blipFill>
        <p:spPr>
          <a:xfrm>
            <a:off x="1763640" y="2781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2" descr="звезды2"/>
          <p:cNvPicPr/>
          <p:nvPr/>
        </p:nvPicPr>
        <p:blipFill>
          <a:blip r:embed="rId3"/>
          <a:stretch/>
        </p:blipFill>
        <p:spPr>
          <a:xfrm>
            <a:off x="4716360" y="260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3" descr="звезды2"/>
          <p:cNvPicPr/>
          <p:nvPr/>
        </p:nvPicPr>
        <p:blipFill>
          <a:blip r:embed="rId4"/>
          <a:stretch/>
        </p:blipFill>
        <p:spPr>
          <a:xfrm>
            <a:off x="8244000" y="40464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4" descr="Звезды1"/>
          <p:cNvPicPr/>
          <p:nvPr/>
        </p:nvPicPr>
        <p:blipFill>
          <a:blip r:embed="rId5"/>
          <a:stretch/>
        </p:blipFill>
        <p:spPr>
          <a:xfrm>
            <a:off x="-289080" y="6019920"/>
            <a:ext cx="289080" cy="438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5" descr="Звезды1"/>
          <p:cNvPicPr/>
          <p:nvPr/>
        </p:nvPicPr>
        <p:blipFill>
          <a:blip r:embed="rId6"/>
          <a:stretch/>
        </p:blipFill>
        <p:spPr>
          <a:xfrm>
            <a:off x="611280" y="40464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6" descr="Звезды1"/>
          <p:cNvPicPr/>
          <p:nvPr/>
        </p:nvPicPr>
        <p:blipFill>
          <a:blip r:embed="rId7"/>
          <a:stretch/>
        </p:blipFill>
        <p:spPr>
          <a:xfrm>
            <a:off x="1187280" y="1484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7" descr="Звезды1"/>
          <p:cNvPicPr/>
          <p:nvPr/>
        </p:nvPicPr>
        <p:blipFill>
          <a:blip r:embed="rId8"/>
          <a:stretch/>
        </p:blipFill>
        <p:spPr>
          <a:xfrm>
            <a:off x="5219640" y="4508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8" descr="звезды2"/>
          <p:cNvPicPr/>
          <p:nvPr/>
        </p:nvPicPr>
        <p:blipFill>
          <a:blip r:embed="rId9"/>
          <a:stretch/>
        </p:blipFill>
        <p:spPr>
          <a:xfrm>
            <a:off x="7696080" y="61722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9" descr="звезды2"/>
          <p:cNvPicPr/>
          <p:nvPr/>
        </p:nvPicPr>
        <p:blipFill>
          <a:blip r:embed="rId10"/>
          <a:stretch/>
        </p:blipFill>
        <p:spPr>
          <a:xfrm>
            <a:off x="8648640" y="422100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0" descr="звезды2"/>
          <p:cNvPicPr/>
          <p:nvPr/>
        </p:nvPicPr>
        <p:blipFill>
          <a:blip r:embed="rId11"/>
          <a:stretch/>
        </p:blipFill>
        <p:spPr>
          <a:xfrm>
            <a:off x="8648640" y="2205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1" descr="звезды2"/>
          <p:cNvPicPr/>
          <p:nvPr/>
        </p:nvPicPr>
        <p:blipFill>
          <a:blip r:embed="rId12"/>
          <a:stretch/>
        </p:blipFill>
        <p:spPr>
          <a:xfrm>
            <a:off x="7093080" y="27082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2" descr="звезды2"/>
          <p:cNvPicPr/>
          <p:nvPr/>
        </p:nvPicPr>
        <p:blipFill>
          <a:blip r:embed="rId13"/>
          <a:stretch/>
        </p:blipFill>
        <p:spPr>
          <a:xfrm>
            <a:off x="3708360" y="31417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3" descr="звезды2"/>
          <p:cNvPicPr/>
          <p:nvPr/>
        </p:nvPicPr>
        <p:blipFill>
          <a:blip r:embed="rId14"/>
          <a:stretch/>
        </p:blipFill>
        <p:spPr>
          <a:xfrm>
            <a:off x="250920" y="609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4" descr="звезды2"/>
          <p:cNvPicPr/>
          <p:nvPr/>
        </p:nvPicPr>
        <p:blipFill>
          <a:blip r:embed="rId15"/>
          <a:stretch/>
        </p:blipFill>
        <p:spPr>
          <a:xfrm>
            <a:off x="3505320" y="64198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5" descr="звезды2"/>
          <p:cNvPicPr/>
          <p:nvPr/>
        </p:nvPicPr>
        <p:blipFill>
          <a:blip r:embed="rId16"/>
          <a:stretch/>
        </p:blipFill>
        <p:spPr>
          <a:xfrm>
            <a:off x="395280" y="4076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6" descr="звезды2"/>
          <p:cNvPicPr/>
          <p:nvPr/>
        </p:nvPicPr>
        <p:blipFill>
          <a:blip r:embed="rId17"/>
          <a:stretch/>
        </p:blipFill>
        <p:spPr>
          <a:xfrm>
            <a:off x="3203640" y="260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7" descr="звезды2"/>
          <p:cNvPicPr/>
          <p:nvPr/>
        </p:nvPicPr>
        <p:blipFill>
          <a:blip r:embed="rId18"/>
          <a:stretch/>
        </p:blipFill>
        <p:spPr>
          <a:xfrm>
            <a:off x="6732720" y="18900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8" descr="звезды2"/>
          <p:cNvPicPr/>
          <p:nvPr/>
        </p:nvPicPr>
        <p:blipFill>
          <a:blip r:embed="rId19"/>
          <a:stretch/>
        </p:blipFill>
        <p:spPr>
          <a:xfrm>
            <a:off x="5651640" y="2708280"/>
            <a:ext cx="495000" cy="438120"/>
          </a:xfrm>
          <a:prstGeom prst="rect">
            <a:avLst/>
          </a:prstGeom>
          <a:ln w="0">
            <a:noFill/>
          </a:ln>
        </p:spPr>
      </p:pic>
      <p:sp>
        <p:nvSpPr>
          <p:cNvPr id="212" name="WordArt 69"/>
          <p:cNvSpPr txBox="1"/>
          <p:nvPr/>
        </p:nvSpPr>
        <p:spPr>
          <a:xfrm>
            <a:off x="2050920" y="836640"/>
            <a:ext cx="720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13" name="WordArt 70"/>
          <p:cNvSpPr txBox="1"/>
          <p:nvPr/>
        </p:nvSpPr>
        <p:spPr>
          <a:xfrm>
            <a:off x="3851280" y="1557360"/>
            <a:ext cx="720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14" name="WordArt 71"/>
          <p:cNvSpPr txBox="1"/>
          <p:nvPr/>
        </p:nvSpPr>
        <p:spPr>
          <a:xfrm>
            <a:off x="4211640" y="3357720"/>
            <a:ext cx="72072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15" name="WordArt 72"/>
          <p:cNvSpPr txBox="1"/>
          <p:nvPr/>
        </p:nvSpPr>
        <p:spPr>
          <a:xfrm>
            <a:off x="6227640" y="3573360"/>
            <a:ext cx="720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16" name="WordArt 73"/>
          <p:cNvSpPr txBox="1"/>
          <p:nvPr/>
        </p:nvSpPr>
        <p:spPr>
          <a:xfrm>
            <a:off x="5435640" y="981000"/>
            <a:ext cx="72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17" name="WordArt 74"/>
          <p:cNvSpPr txBox="1"/>
          <p:nvPr/>
        </p:nvSpPr>
        <p:spPr>
          <a:xfrm>
            <a:off x="7093080" y="1341360"/>
            <a:ext cx="72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18" name="WordArt 75"/>
          <p:cNvSpPr txBox="1"/>
          <p:nvPr/>
        </p:nvSpPr>
        <p:spPr>
          <a:xfrm>
            <a:off x="1116000" y="3213000"/>
            <a:ext cx="72072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grpSp>
        <p:nvGrpSpPr>
          <p:cNvPr id="219" name="Group 76"/>
          <p:cNvGrpSpPr/>
          <p:nvPr/>
        </p:nvGrpSpPr>
        <p:grpSpPr>
          <a:xfrm>
            <a:off x="5397480" y="712800"/>
            <a:ext cx="3156120" cy="3317040"/>
            <a:chOff x="5397480" y="712800"/>
            <a:chExt cx="3156120" cy="3317040"/>
          </a:xfrm>
        </p:grpSpPr>
        <p:grpSp>
          <p:nvGrpSpPr>
            <p:cNvPr id="220" name="Group 276"/>
            <p:cNvGrpSpPr/>
            <p:nvPr/>
          </p:nvGrpSpPr>
          <p:grpSpPr>
            <a:xfrm>
              <a:off x="5397480" y="712800"/>
              <a:ext cx="3156120" cy="3317040"/>
              <a:chOff x="5397480" y="712800"/>
              <a:chExt cx="3156120" cy="3317040"/>
            </a:xfrm>
          </p:grpSpPr>
          <p:sp>
            <p:nvSpPr>
              <p:cNvPr id="221" name="Freeform 275"/>
              <p:cNvSpPr/>
              <p:nvPr/>
            </p:nvSpPr>
            <p:spPr>
              <a:xfrm rot="13572000">
                <a:off x="6038280" y="2027160"/>
                <a:ext cx="692640" cy="2071440"/>
              </a:xfrm>
              <a:prstGeom prst="pie">
                <a:avLst/>
              </a:prstGeom>
              <a:noFill/>
              <a:ln w="25560">
                <a:solidFill>
                  <a:srgbClr val="fc80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271"/>
              <p:cNvSpPr/>
              <p:nvPr/>
            </p:nvSpPr>
            <p:spPr>
              <a:xfrm rot="2772600">
                <a:off x="6829200" y="911880"/>
                <a:ext cx="1294920" cy="1741680"/>
              </a:xfrm>
              <a:prstGeom prst="ellipse">
                <a:avLst/>
              </a:prstGeom>
              <a:solidFill>
                <a:srgbClr val="fdc3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273"/>
              <p:cNvSpPr/>
              <p:nvPr/>
            </p:nvSpPr>
            <p:spPr>
              <a:xfrm rot="2772600">
                <a:off x="6431400" y="2334600"/>
                <a:ext cx="708480" cy="357120"/>
              </a:xfrm>
              <a:prstGeom prst="pie">
                <a:avLst/>
              </a:prstGeom>
              <a:solidFill>
                <a:srgbClr val="fdc3f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Oval 81"/>
            <p:cNvSpPr/>
            <p:nvPr/>
          </p:nvSpPr>
          <p:spPr>
            <a:xfrm rot="2193000">
              <a:off x="7315920" y="1236600"/>
              <a:ext cx="838080" cy="914040"/>
            </a:xfrm>
            <a:prstGeom prst="ellipse">
              <a:avLst/>
            </a:prstGeom>
            <a:solidFill>
              <a:srgbClr val="fc8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82"/>
            <p:cNvSpPr/>
            <p:nvPr/>
          </p:nvSpPr>
          <p:spPr>
            <a:xfrm rot="1978800">
              <a:off x="7456680" y="1397880"/>
              <a:ext cx="609120" cy="685440"/>
            </a:xfrm>
            <a:prstGeom prst="ellipse">
              <a:avLst/>
            </a:prstGeom>
            <a:solidFill>
              <a:srgbClr val="fdc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20"/>
          <a:stretch/>
        </p:blipFill>
        <p:spPr>
          <a:xfrm flipH="1">
            <a:off x="3563640" y="3860640"/>
            <a:ext cx="1808280" cy="218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5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5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4" dur="5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8" dur="5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" dur="5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5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9.24855E-007 C -0.00382 0.00139 -0.00833 0.00208 -0.01111 0.00648 C -0.01215 0.0081 -0.01198 0.01087 -0.01285 0.01272 C -0.01458 0.01665 -0.01667 0.02012 -0.0191 0.02336 C -0.02622 0.0326 -0.02188 0.02243 -0.02708 0.03191 C -0.0401 0.05526 -0.05295 0.07885 -0.0684 0.09942 C -0.07465 0.10775 -0.07847 0.11885 -0.08733 0.12278 C -0.09531 0.13295 -0.10399 0.15422 -0.11441 0.15862 C -0.12118 0.16463 -0.12882 0.16601 -0.13507 0.17341 E">
                                      <p:cBhvr>
                                        <p:cTn id="344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93064E-006 C 0.0059 -0.00832 0.00174 -0.00185 0.00937 -0.01711 C 0.01042 -0.01919 0.01267 -0.02335 0.01267 -0.02335 C 0.01319 -0.02543 0.01337 -0.02775 0.01424 -0.0296 C 0.01493 -0.03145 0.01667 -0.03214 0.01736 -0.03399 C 0.02413 -0.05272 0.01667 -0.04185 0.02378 -0.05087 C 0.02587 -0.05896 0.02795 -0.06104 0.03333 -0.06567 C 0.03854 -0.07607 0.03924 -0.07538 0.04271 -0.08879 C 0.04323 -0.09087 0.04392 -0.09318 0.04444 -0.09526 C 0.04496 -0.09734 0.04601 -0.1015 0.04601 -0.1015 C 0.04653 -0.1163 0.04618 -0.1311 0.04757 -0.1459 C 0.04792 -0.15029 0.0533 -0.15214 0.05382 -0.15653 C 0.05451 -0.16278 0.05382 -0.16925 0.05382 -0.17549 E">
                                      <p:cBhvr>
                                        <p:cTn id="346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8.20809E-006 C -0.0257 0.00186 -0.0507 0.00556 -0.07622 0.00856 C -0.07934 0.00995 -0.08264 0.01134 -0.08576 0.01272 C -0.08733 0.01342 -0.09063 0.0148 -0.09063 0.0148 C -0.09983 0.02313 -0.10417 0.02729 -0.11441 0.03191 C -0.11615 0.03284 -0.11719 0.03561 -0.1191 0.03608 C -0.12587 0.03769 -0.13281 0.03746 -0.13976 0.03816 C -0.15191 0.04347 -0.13767 0.03631 -0.14774 0.0444 C -0.14879 0.04532 -0.15625 0.04833 -0.15729 0.04879 C -0.1599 0.0511 -0.16736 0.05966 -0.1684 0.06359 C -0.1691 0.06613 -0.1684 0.06914 -0.1684 0.07191 E">
                                      <p:cBhvr>
                                        <p:cTn id="348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93064E-006 C 0.00173 -0.00162 0.00677 -0.00555 0.00798 -0.00856 C 0.00955 -0.01249 0.01111 -0.02104 0.01111 -0.02104 C 0.00989 -0.04462 0.00625 -0.08902 -0.00486 -0.10983 C -0.00729 -0.11954 -0.01302 -0.1237 -0.01754 -0.1311 C -0.02222 -0.13873 -0.02552 -0.14451 -0.03177 -0.15006 C -0.03507 -0.16393 -0.03038 -0.15052 -0.0382 -0.15861 C -0.03976 -0.16023 -0.03976 -0.16347 -0.04132 -0.16486 C -0.05174 -0.17341 -0.07049 -0.17434 -0.08091 -0.17549 C -0.08559 -0.1815 -0.0908 -0.18775 -0.09688 -0.19029 C -0.09966 -0.19283 -0.10191 -0.19653 -0.10486 -0.19861 C -0.10781 -0.20069 -0.11424 -0.20301 -0.11424 -0.20301 E">
                                      <p:cBhvr>
                                        <p:cTn id="350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4323 C 0.00069 0.03445 0.00416 0.02543 0.00816 0.0178 C 0.01354 -0.04856 0.01111 -0.1096 0.00972 -0.17873 C 0.00937 -0.19677 -0.00573 -0.21388 -0.01736 -0.21896 C -0.01893 -0.22104 -0.02205 -0.22521 -0.02205 -0.22521 E">
                                      <p:cBhvr>
                                        <p:cTn id="352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4 0.05434 C -0.02395 0.06313 -0.04618 0.05596 -0.06718 0.06266 C -0.07013 0.06544 -0.07378 0.06636 -0.07673 0.06914 C -0.0842 0.07654 -0.09079 0.08787 -0.09739 0.09665 C -0.1 0.10012 -0.10382 0.1022 -0.10694 0.10498 C -0.10972 0.10729 -0.11319 0.10798 -0.11632 0.10937 C -0.11944 0.11076 -0.12586 0.11353 -0.12586 0.11353 C -0.13541 0.12555 -0.12222 0.11029 -0.13385 0.11977 C -0.13645 0.12185 -0.13802 0.12555 -0.14027 0.12833 C -0.14132 0.13249 -0.14236 0.13688 -0.1434 0.14104 C -0.14392 0.14313 -0.14496 0.14729 -0.14496 0.14729 E">
                                      <p:cBhvr>
                                        <p:cTn id="354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04925 C -0.04583 0.04994 -0.09236 0.05017 -0.13888 0.05156 C -0.14878 0.05179 -0.16614 0.05595 -0.17534 0.05988 C -0.1802 0.06196 -0.18472 0.06589 -0.18975 0.06636 C -0.19774 0.06705 -0.20555 0.06774 -0.21354 0.06844 C -0.2217 0.0756 -0.21979 0.08323 -0.21979 0.09595 E">
                                      <p:cBhvr>
                                        <p:cTn id="356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8" dur="5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8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2" descr="aamj"/>
          <p:cNvPicPr/>
          <p:nvPr/>
        </p:nvPicPr>
        <p:blipFill>
          <a:blip r:embed="rId2"/>
          <a:stretch/>
        </p:blipFill>
        <p:spPr>
          <a:xfrm>
            <a:off x="3203640" y="2637000"/>
            <a:ext cx="2587680" cy="2520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258920" y="620640"/>
            <a:ext cx="6626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ДАЧИ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1981080" y="37339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гри …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>
            <a:off x="3708360" y="4869000"/>
            <a:ext cx="10666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>
            <a:hlinkClick r:id="rId2" action="ppaction://hlinksldjump"/>
          </p:cNvPr>
          <p:cNvSpPr/>
          <p:nvPr/>
        </p:nvSpPr>
        <p:spPr>
          <a:xfrm>
            <a:off x="1523880" y="5334120"/>
            <a:ext cx="1067040" cy="990360"/>
          </a:xfrm>
          <a:custGeom>
            <a:avLst/>
            <a:gdLst>
              <a:gd name="textAreaLeft" fmla="*/ 64080 w 1067040"/>
              <a:gd name="textAreaRight" fmla="*/ 1002960 w 10670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3272" h="21600">
                <a:moveTo>
                  <a:pt x="0" y="0"/>
                </a:moveTo>
                <a:lnTo>
                  <a:pt x="23272" y="0"/>
                </a:lnTo>
                <a:lnTo>
                  <a:pt x="23272" y="21600"/>
                </a:lnTo>
                <a:lnTo>
                  <a:pt x="0" y="21600"/>
                </a:lnTo>
                <a:close/>
              </a:path>
              <a:path fill="lightenLess" w="23272" h="21600">
                <a:moveTo>
                  <a:pt x="0" y="0"/>
                </a:moveTo>
                <a:lnTo>
                  <a:pt x="23272" y="0"/>
                </a:lnTo>
                <a:lnTo>
                  <a:pt x="21872" y="1400"/>
                </a:lnTo>
                <a:lnTo>
                  <a:pt x="1400" y="1400"/>
                </a:lnTo>
                <a:close/>
              </a:path>
              <a:path fill="darken" w="23272" h="21600">
                <a:moveTo>
                  <a:pt x="23272" y="0"/>
                </a:moveTo>
                <a:lnTo>
                  <a:pt x="23272" y="21600"/>
                </a:lnTo>
                <a:lnTo>
                  <a:pt x="21872" y="20200"/>
                </a:lnTo>
                <a:lnTo>
                  <a:pt x="21872" y="1400"/>
                </a:lnTo>
                <a:close/>
              </a:path>
              <a:path fill="darkenLess" w="23272" h="21600">
                <a:moveTo>
                  <a:pt x="23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72" y="20200"/>
                </a:lnTo>
                <a:close/>
              </a:path>
              <a:path fill="lighten" w="23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819520" y="5638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962520" y="54100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851280" y="35002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1cb06d"/>
                </a:solidFill>
                <a:latin typeface="Arial"/>
              </a:rPr>
              <a:t>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4952880" y="167652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>
            <a:hlinkClick r:id="rId3" action="ppaction://hlinksldjump"/>
          </p:cNvPr>
          <p:cNvSpPr/>
          <p:nvPr/>
        </p:nvSpPr>
        <p:spPr>
          <a:xfrm>
            <a:off x="1523880" y="5334120"/>
            <a:ext cx="1067040" cy="990360"/>
          </a:xfrm>
          <a:custGeom>
            <a:avLst/>
            <a:gdLst>
              <a:gd name="textAreaLeft" fmla="*/ 64080 w 1067040"/>
              <a:gd name="textAreaRight" fmla="*/ 1002960 w 10670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3272" h="21600">
                <a:moveTo>
                  <a:pt x="0" y="0"/>
                </a:moveTo>
                <a:lnTo>
                  <a:pt x="23272" y="0"/>
                </a:lnTo>
                <a:lnTo>
                  <a:pt x="23272" y="21600"/>
                </a:lnTo>
                <a:lnTo>
                  <a:pt x="0" y="21600"/>
                </a:lnTo>
                <a:close/>
              </a:path>
              <a:path fill="lightenLess" w="23272" h="21600">
                <a:moveTo>
                  <a:pt x="0" y="0"/>
                </a:moveTo>
                <a:lnTo>
                  <a:pt x="23272" y="0"/>
                </a:lnTo>
                <a:lnTo>
                  <a:pt x="21872" y="1400"/>
                </a:lnTo>
                <a:lnTo>
                  <a:pt x="1400" y="1400"/>
                </a:lnTo>
                <a:close/>
              </a:path>
              <a:path fill="darken" w="23272" h="21600">
                <a:moveTo>
                  <a:pt x="23272" y="0"/>
                </a:moveTo>
                <a:lnTo>
                  <a:pt x="23272" y="21600"/>
                </a:lnTo>
                <a:lnTo>
                  <a:pt x="21872" y="20200"/>
                </a:lnTo>
                <a:lnTo>
                  <a:pt x="21872" y="1400"/>
                </a:lnTo>
                <a:close/>
              </a:path>
              <a:path fill="darkenLess" w="23272" h="21600">
                <a:moveTo>
                  <a:pt x="23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72" y="20200"/>
                </a:lnTo>
                <a:close/>
              </a:path>
              <a:path fill="lighten" w="23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826920" y="549360"/>
            <a:ext cx="280836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3809880" y="342900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з ... лёно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>
            <a:hlinkClick r:id="rId2" action="ppaction://hlinksldjump"/>
          </p:cNvPr>
          <p:cNvSpPr/>
          <p:nvPr/>
        </p:nvSpPr>
        <p:spPr>
          <a:xfrm>
            <a:off x="3276720" y="5410080"/>
            <a:ext cx="1131840" cy="914400"/>
          </a:xfrm>
          <a:custGeom>
            <a:avLst/>
            <a:gdLst>
              <a:gd name="textAreaLeft" fmla="*/ 59040 w 1131840"/>
              <a:gd name="textAreaRight" fmla="*/ 1072800 w 11318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734" h="21600">
                <a:moveTo>
                  <a:pt x="0" y="0"/>
                </a:moveTo>
                <a:lnTo>
                  <a:pt x="26734" y="0"/>
                </a:lnTo>
                <a:lnTo>
                  <a:pt x="26734" y="21600"/>
                </a:lnTo>
                <a:lnTo>
                  <a:pt x="0" y="21600"/>
                </a:lnTo>
                <a:close/>
              </a:path>
              <a:path fill="lightenLess" w="26734" h="21600">
                <a:moveTo>
                  <a:pt x="0" y="0"/>
                </a:moveTo>
                <a:lnTo>
                  <a:pt x="26734" y="0"/>
                </a:lnTo>
                <a:lnTo>
                  <a:pt x="25334" y="1400"/>
                </a:lnTo>
                <a:lnTo>
                  <a:pt x="1400" y="1400"/>
                </a:lnTo>
                <a:close/>
              </a:path>
              <a:path fill="darken" w="26734" h="21600">
                <a:moveTo>
                  <a:pt x="26734" y="0"/>
                </a:moveTo>
                <a:lnTo>
                  <a:pt x="26734" y="21600"/>
                </a:lnTo>
                <a:lnTo>
                  <a:pt x="25334" y="20200"/>
                </a:lnTo>
                <a:lnTo>
                  <a:pt x="25334" y="1400"/>
                </a:lnTo>
                <a:close/>
              </a:path>
              <a:path fill="darkenLess" w="26734" h="21600">
                <a:moveTo>
                  <a:pt x="26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34" y="20200"/>
                </a:lnTo>
                <a:close/>
              </a:path>
              <a:path fill="lighten" w="26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4800600" y="54100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4495680" y="4648320"/>
            <a:ext cx="10670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4500720" y="3141720"/>
            <a:ext cx="10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1cb06d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4419720" y="990720"/>
            <a:ext cx="449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84360" y="1628640"/>
            <a:ext cx="219528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457200" y="24382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с … е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1143000" y="3733920"/>
            <a:ext cx="10666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295280" y="2133720"/>
            <a:ext cx="106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1cb06d"/>
                </a:solidFill>
                <a:latin typeface="Arial"/>
              </a:rPr>
              <a:t>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066680" y="91440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>
            <a:hlinkClick r:id="rId2" action="ppaction://hlinksldjump"/>
          </p:cNvPr>
          <p:cNvSpPr/>
          <p:nvPr/>
        </p:nvSpPr>
        <p:spPr>
          <a:xfrm>
            <a:off x="1143000" y="4876920"/>
            <a:ext cx="1066680" cy="99036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3264" h="21600">
                <a:moveTo>
                  <a:pt x="0" y="0"/>
                </a:moveTo>
                <a:lnTo>
                  <a:pt x="23264" y="0"/>
                </a:lnTo>
                <a:lnTo>
                  <a:pt x="23264" y="21600"/>
                </a:lnTo>
                <a:lnTo>
                  <a:pt x="0" y="21600"/>
                </a:lnTo>
                <a:close/>
              </a:path>
              <a:path fill="lightenLess" w="23264" h="21600">
                <a:moveTo>
                  <a:pt x="0" y="0"/>
                </a:moveTo>
                <a:lnTo>
                  <a:pt x="23264" y="0"/>
                </a:lnTo>
                <a:lnTo>
                  <a:pt x="21864" y="1400"/>
                </a:lnTo>
                <a:lnTo>
                  <a:pt x="1400" y="1400"/>
                </a:lnTo>
                <a:close/>
              </a:path>
              <a:path fill="darken" w="23264" h="21600">
                <a:moveTo>
                  <a:pt x="23264" y="0"/>
                </a:moveTo>
                <a:lnTo>
                  <a:pt x="23264" y="21600"/>
                </a:lnTo>
                <a:lnTo>
                  <a:pt x="21864" y="20200"/>
                </a:lnTo>
                <a:lnTo>
                  <a:pt x="21864" y="1400"/>
                </a:lnTo>
                <a:close/>
              </a:path>
              <a:path fill="darkenLess" w="23264" h="21600">
                <a:moveTo>
                  <a:pt x="23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64" y="20200"/>
                </a:lnTo>
                <a:close/>
              </a:path>
              <a:path fill="lighten" w="23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2743200" y="4876920"/>
            <a:ext cx="990720" cy="99036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1608" h="21600">
                <a:moveTo>
                  <a:pt x="0" y="0"/>
                </a:moveTo>
                <a:lnTo>
                  <a:pt x="21608" y="0"/>
                </a:lnTo>
                <a:lnTo>
                  <a:pt x="21608" y="21600"/>
                </a:lnTo>
                <a:lnTo>
                  <a:pt x="0" y="21600"/>
                </a:lnTo>
                <a:close/>
              </a:path>
              <a:path fill="lightenLess" w="21608" h="21600">
                <a:moveTo>
                  <a:pt x="0" y="0"/>
                </a:moveTo>
                <a:lnTo>
                  <a:pt x="21608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8" h="21600">
                <a:moveTo>
                  <a:pt x="21608" y="0"/>
                </a:moveTo>
                <a:lnTo>
                  <a:pt x="21608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8" h="21600">
                <a:moveTo>
                  <a:pt x="21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345600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457200" y="24382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скач … 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>
            <a:off x="2700360" y="3500280"/>
            <a:ext cx="10666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843280" y="2349360"/>
            <a:ext cx="10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1cb06d"/>
                </a:solidFill>
                <a:latin typeface="Arial"/>
              </a:rPr>
              <a:t>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066680" y="91440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8">
            <a:hlinkClick r:id="rId2" action="ppaction://hlinksldjump"/>
          </p:cNvPr>
          <p:cNvSpPr/>
          <p:nvPr/>
        </p:nvSpPr>
        <p:spPr>
          <a:xfrm>
            <a:off x="1143000" y="4876920"/>
            <a:ext cx="1066680" cy="99036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3264" h="21600">
                <a:moveTo>
                  <a:pt x="0" y="0"/>
                </a:moveTo>
                <a:lnTo>
                  <a:pt x="23264" y="0"/>
                </a:lnTo>
                <a:lnTo>
                  <a:pt x="23264" y="21600"/>
                </a:lnTo>
                <a:lnTo>
                  <a:pt x="0" y="21600"/>
                </a:lnTo>
                <a:close/>
              </a:path>
              <a:path fill="lightenLess" w="23264" h="21600">
                <a:moveTo>
                  <a:pt x="0" y="0"/>
                </a:moveTo>
                <a:lnTo>
                  <a:pt x="23264" y="0"/>
                </a:lnTo>
                <a:lnTo>
                  <a:pt x="21864" y="1400"/>
                </a:lnTo>
                <a:lnTo>
                  <a:pt x="1400" y="1400"/>
                </a:lnTo>
                <a:close/>
              </a:path>
              <a:path fill="darken" w="23264" h="21600">
                <a:moveTo>
                  <a:pt x="23264" y="0"/>
                </a:moveTo>
                <a:lnTo>
                  <a:pt x="23264" y="21600"/>
                </a:lnTo>
                <a:lnTo>
                  <a:pt x="21864" y="20200"/>
                </a:lnTo>
                <a:lnTo>
                  <a:pt x="21864" y="1400"/>
                </a:lnTo>
                <a:close/>
              </a:path>
              <a:path fill="darkenLess" w="23264" h="21600">
                <a:moveTo>
                  <a:pt x="23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64" y="20200"/>
                </a:lnTo>
                <a:close/>
              </a:path>
              <a:path fill="lighten" w="23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2743200" y="4876920"/>
            <a:ext cx="990720" cy="99036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1608" h="21600">
                <a:moveTo>
                  <a:pt x="0" y="0"/>
                </a:moveTo>
                <a:lnTo>
                  <a:pt x="21608" y="0"/>
                </a:lnTo>
                <a:lnTo>
                  <a:pt x="21608" y="21600"/>
                </a:lnTo>
                <a:lnTo>
                  <a:pt x="0" y="21600"/>
                </a:lnTo>
                <a:close/>
              </a:path>
              <a:path fill="lightenLess" w="21608" h="21600">
                <a:moveTo>
                  <a:pt x="0" y="0"/>
                </a:moveTo>
                <a:lnTo>
                  <a:pt x="21608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8" h="21600">
                <a:moveTo>
                  <a:pt x="21608" y="0"/>
                </a:moveTo>
                <a:lnTo>
                  <a:pt x="21608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8" h="21600">
                <a:moveTo>
                  <a:pt x="21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8" descr="2.gif"/>
          <p:cNvPicPr/>
          <p:nvPr/>
        </p:nvPicPr>
        <p:blipFill>
          <a:blip r:embed="rId3"/>
          <a:stretch/>
        </p:blipFill>
        <p:spPr>
          <a:xfrm rot="21430200">
            <a:off x="7235640" y="220464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8" descr="2.gif"/>
          <p:cNvPicPr/>
          <p:nvPr/>
        </p:nvPicPr>
        <p:blipFill>
          <a:blip r:embed="rId4"/>
          <a:stretch/>
        </p:blipFill>
        <p:spPr>
          <a:xfrm rot="780000">
            <a:off x="5508360" y="2276640"/>
            <a:ext cx="1428480" cy="142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137"/>
          <p:cNvPicPr/>
          <p:nvPr/>
        </p:nvPicPr>
        <p:blipFill>
          <a:blip r:embed="rId2"/>
          <a:stretch/>
        </p:blipFill>
        <p:spPr>
          <a:xfrm>
            <a:off x="5257800" y="838080"/>
            <a:ext cx="3429000" cy="32655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457200" y="24382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к … ров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 flipV="1">
            <a:off x="3352680" y="2362320"/>
            <a:ext cx="30492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1143000" y="3733920"/>
            <a:ext cx="10666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295280" y="2133720"/>
            <a:ext cx="106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1cb06d"/>
                </a:solidFill>
                <a:latin typeface="Arial"/>
              </a:rPr>
              <a:t>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066680" y="91440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>
            <a:hlinkClick r:id="rId3" action="ppaction://hlinksldjump"/>
          </p:cNvPr>
          <p:cNvSpPr/>
          <p:nvPr/>
        </p:nvSpPr>
        <p:spPr>
          <a:xfrm>
            <a:off x="1143000" y="4876920"/>
            <a:ext cx="1066680" cy="99036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3264" h="21600">
                <a:moveTo>
                  <a:pt x="0" y="0"/>
                </a:moveTo>
                <a:lnTo>
                  <a:pt x="23264" y="0"/>
                </a:lnTo>
                <a:lnTo>
                  <a:pt x="23264" y="21600"/>
                </a:lnTo>
                <a:lnTo>
                  <a:pt x="0" y="21600"/>
                </a:lnTo>
                <a:close/>
              </a:path>
              <a:path fill="lightenLess" w="23264" h="21600">
                <a:moveTo>
                  <a:pt x="0" y="0"/>
                </a:moveTo>
                <a:lnTo>
                  <a:pt x="23264" y="0"/>
                </a:lnTo>
                <a:lnTo>
                  <a:pt x="21864" y="1400"/>
                </a:lnTo>
                <a:lnTo>
                  <a:pt x="1400" y="1400"/>
                </a:lnTo>
                <a:close/>
              </a:path>
              <a:path fill="darken" w="23264" h="21600">
                <a:moveTo>
                  <a:pt x="23264" y="0"/>
                </a:moveTo>
                <a:lnTo>
                  <a:pt x="23264" y="21600"/>
                </a:lnTo>
                <a:lnTo>
                  <a:pt x="21864" y="20200"/>
                </a:lnTo>
                <a:lnTo>
                  <a:pt x="21864" y="1400"/>
                </a:lnTo>
                <a:close/>
              </a:path>
              <a:path fill="darkenLess" w="23264" h="21600">
                <a:moveTo>
                  <a:pt x="23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64" y="20200"/>
                </a:lnTo>
                <a:close/>
              </a:path>
              <a:path fill="lighten" w="23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2743200" y="4876920"/>
            <a:ext cx="990720" cy="99036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1608" h="21600">
                <a:moveTo>
                  <a:pt x="0" y="0"/>
                </a:moveTo>
                <a:lnTo>
                  <a:pt x="21608" y="0"/>
                </a:lnTo>
                <a:lnTo>
                  <a:pt x="21608" y="21600"/>
                </a:lnTo>
                <a:lnTo>
                  <a:pt x="0" y="21600"/>
                </a:lnTo>
                <a:close/>
              </a:path>
              <a:path fill="lightenLess" w="21608" h="21600">
                <a:moveTo>
                  <a:pt x="0" y="0"/>
                </a:moveTo>
                <a:lnTo>
                  <a:pt x="21608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8" h="21600">
                <a:moveTo>
                  <a:pt x="21608" y="0"/>
                </a:moveTo>
                <a:lnTo>
                  <a:pt x="21608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8" h="21600">
                <a:moveTo>
                  <a:pt x="21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457200" y="24382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сла … ка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2268360" y="3645000"/>
            <a:ext cx="106704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484360" y="2205000"/>
            <a:ext cx="106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1cb06d"/>
                </a:solidFill>
                <a:latin typeface="Arial"/>
              </a:rPr>
              <a:t>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066680" y="91440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>
            <a:hlinkClick r:id="rId2" action="ppaction://hlinksldjump"/>
          </p:cNvPr>
          <p:cNvSpPr/>
          <p:nvPr/>
        </p:nvSpPr>
        <p:spPr>
          <a:xfrm>
            <a:off x="1143000" y="4876920"/>
            <a:ext cx="1066680" cy="99036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3264" h="21600">
                <a:moveTo>
                  <a:pt x="0" y="0"/>
                </a:moveTo>
                <a:lnTo>
                  <a:pt x="23264" y="0"/>
                </a:lnTo>
                <a:lnTo>
                  <a:pt x="23264" y="21600"/>
                </a:lnTo>
                <a:lnTo>
                  <a:pt x="0" y="21600"/>
                </a:lnTo>
                <a:close/>
              </a:path>
              <a:path fill="lightenLess" w="23264" h="21600">
                <a:moveTo>
                  <a:pt x="0" y="0"/>
                </a:moveTo>
                <a:lnTo>
                  <a:pt x="23264" y="0"/>
                </a:lnTo>
                <a:lnTo>
                  <a:pt x="21864" y="1400"/>
                </a:lnTo>
                <a:lnTo>
                  <a:pt x="1400" y="1400"/>
                </a:lnTo>
                <a:close/>
              </a:path>
              <a:path fill="darken" w="23264" h="21600">
                <a:moveTo>
                  <a:pt x="23264" y="0"/>
                </a:moveTo>
                <a:lnTo>
                  <a:pt x="23264" y="21600"/>
                </a:lnTo>
                <a:lnTo>
                  <a:pt x="21864" y="20200"/>
                </a:lnTo>
                <a:lnTo>
                  <a:pt x="21864" y="1400"/>
                </a:lnTo>
                <a:close/>
              </a:path>
              <a:path fill="darkenLess" w="23264" h="21600">
                <a:moveTo>
                  <a:pt x="23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64" y="20200"/>
                </a:lnTo>
                <a:close/>
              </a:path>
              <a:path fill="lighten" w="23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2743200" y="4876920"/>
            <a:ext cx="990720" cy="99036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1608" h="21600">
                <a:moveTo>
                  <a:pt x="0" y="0"/>
                </a:moveTo>
                <a:lnTo>
                  <a:pt x="21608" y="0"/>
                </a:lnTo>
                <a:lnTo>
                  <a:pt x="21608" y="21600"/>
                </a:lnTo>
                <a:lnTo>
                  <a:pt x="0" y="21600"/>
                </a:lnTo>
                <a:close/>
              </a:path>
              <a:path fill="lightenLess" w="21608" h="21600">
                <a:moveTo>
                  <a:pt x="0" y="0"/>
                </a:moveTo>
                <a:lnTo>
                  <a:pt x="21608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8" h="21600">
                <a:moveTo>
                  <a:pt x="21608" y="0"/>
                </a:moveTo>
                <a:lnTo>
                  <a:pt x="21608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8" h="21600">
                <a:moveTo>
                  <a:pt x="21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372360" y="1268280"/>
            <a:ext cx="180000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24000" y="549360"/>
            <a:ext cx="24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гри</a:t>
            </a:r>
            <a:r>
              <a:rPr b="1" lang="en-US" sz="7200" spc="-1" strike="noStrike">
                <a:solidFill>
                  <a:srgbClr val="1cb06d"/>
                </a:solidFill>
                <a:latin typeface="Arial"/>
              </a:rPr>
              <a:t>б</a:t>
            </a: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995640" y="62064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з</a:t>
            </a:r>
            <a:r>
              <a:rPr b="1" lang="en-US" sz="7200" spc="-1" strike="noStrike">
                <a:solidFill>
                  <a:srgbClr val="1cb06d"/>
                </a:solidFill>
                <a:latin typeface="Arial"/>
              </a:rPr>
              <a:t>е</a:t>
            </a: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лёно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2438280"/>
            <a:ext cx="267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7200" spc="-1" strike="noStrike">
                <a:solidFill>
                  <a:srgbClr val="1cb06d"/>
                </a:solidFill>
                <a:latin typeface="Arial"/>
              </a:rPr>
              <a:t>ъ</a:t>
            </a: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е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140360" y="242100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скач</a:t>
            </a:r>
            <a:r>
              <a:rPr b="1" lang="en-US" sz="7200" spc="-1" strike="noStrike">
                <a:solidFill>
                  <a:srgbClr val="1cb06d"/>
                </a:solidFill>
                <a:latin typeface="Arial"/>
              </a:rPr>
              <a:t>у</a:t>
            </a: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95280" y="422100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к</a:t>
            </a:r>
            <a:r>
              <a:rPr b="1" lang="en-US" sz="7200" spc="-1" strike="noStrike">
                <a:solidFill>
                  <a:srgbClr val="1cb06d"/>
                </a:solidFill>
                <a:latin typeface="Arial"/>
              </a:rPr>
              <a:t>о</a:t>
            </a: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ров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427640" y="429264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сла</a:t>
            </a:r>
            <a:r>
              <a:rPr b="1" lang="en-US" sz="7200" spc="-1" strike="noStrike">
                <a:solidFill>
                  <a:srgbClr val="1cb06d"/>
                </a:solidFill>
                <a:latin typeface="Arial"/>
              </a:rPr>
              <a:t>д</a:t>
            </a: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ка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08:40:47Z</dcterms:created>
  <dc:creator>Елена</dc:creator>
  <dc:description/>
  <dc:language>en-US</dc:language>
  <cp:lastModifiedBy>Елена</cp:lastModifiedBy>
  <dcterms:modified xsi:type="dcterms:W3CDTF">2011-12-12T14:36:30Z</dcterms:modified>
  <cp:revision>5</cp:revision>
  <dc:subject/>
  <dc:title>Слайд 1</dc:title>
</cp:coreProperties>
</file>